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FFD-3D91-4F3F-939F-63C29540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2DB-7D24-4F45-B041-C34BFA243F3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C23-B0AF-42F0-95D8-27D77B64820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CCB8-97B3-443B-A634-9D3A6FD859D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A70-5DC2-426E-9752-61B132BC4A0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B5C-963F-43EF-9468-7E5A5835495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7BC-C952-4808-B1B6-0FFC02D2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F18-FE27-4F00-BC3E-C10867F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CD7-0443-4BE5-BED6-982508E3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1B9-54AD-4A31-9C99-7F5F746F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EC4D-FA2A-419C-BF4F-EADF2EDB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D3E-E5C8-4ED8-A364-1264F3FC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7E64-CB58-4DEA-8222-39E797B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51E7-866D-4D56-A7DF-A1CEAAD7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9EAA-909A-4504-A887-4F285C8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647F-4137-46DA-91AE-BE78CA5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3F0C-FF5E-4D99-AC54-31E46A29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331-FEE3-4D50-A81D-0E572E9D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6FE9-A68B-407F-BFE7-6A7B4CB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B2A9-FC06-460E-ABFB-BE9885A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D76-5064-468E-ACDA-22C141F9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9797-E787-4E69-A48F-C663D67B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E87-1F3C-4225-87B4-A96DDC41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ED0-631A-4B88-87A1-FF53A9E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8B8-77B9-40E4-90B7-CF5C416E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834-56C5-4B56-8F9C-9B6E5E6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C61-1CCB-4B7F-956F-73B8EEA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394-9CC7-4B0B-800C-0103441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DE6-CAEC-410D-9C54-8BF7725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065-11C0-496B-8BCA-BCD84F4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811-18D2-4BD2-A023-FD2E4253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B1B-F909-4058-AEFD-649D2E7AC856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U.S. MINORITIES IN WWII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men, African Americans,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Japanese Americans,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 America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NAVAJO CODE TALKE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RE ALL U.S. MARINE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SED EXCLUSIVELY IN THE PACIF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ALKED IN CODE, IN THE NAVAJO LANGUAGE TO OTHER NAVAJO’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DE WAS NEVER BROKE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NISEI SOLDIE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JAPANESE AMERICAN CITIZEN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AMILIES WERE IMPRISONED IN INTERNMENT CAMP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RVED WITH DISTINCTION IN ITALY &amp; EUROP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USKEGEE AIRME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 BLACK REGIMENT OF FIGHTER PILOT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GREGATED FROM WHITE TROOP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CREDIBLE MILITARY RECORD OF SUCCESS. “RED TAILS”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BO MOVIE 1996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AMERICAN WOME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RKED IN THE ARMED FORCES (NOT DIRECTLY IN COMBAT)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RKED IN ALL AREAS OF INDUSTR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AINED ECONOMIC &amp; SOCIAL INDEPENDENC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2:19:03Z</dcterms:created>
  <dc:creator>Michael Tetzlaff</dc:creator>
  <dc:description/>
  <dc:language>en-US</dc:language>
  <cp:lastModifiedBy>Sacerdote, Kevin R.</cp:lastModifiedBy>
  <dcterms:modified xsi:type="dcterms:W3CDTF">2016-01-18T21:23:14Z</dcterms:modified>
  <cp:revision>1</cp:revision>
  <dc:subject/>
  <dc:title>U.S. MINORITIES IN WWII</dc:title>
</cp:coreProperties>
</file>